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EEB6-9441-4927-8872-11B91B1B9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F ASSESSMENT: students/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iger, Elke. Service-Learning Toolbox. Portland, OR: Rural Education Program, Northwest Regional Educational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wrel.org/ruraled/learnserve/resources/SL_Toolbox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Shumer, R., Duttweiler, P., Furco, et. al. (2000). </a:t>
            </a:r>
            <a:r>
              <a:rPr b="0" i="1" lang="en-US" sz="1200" spc="-1" strike="noStrike">
                <a:solidFill>
                  <a:srgbClr val="000033"/>
                </a:solidFill>
                <a:latin typeface="Times New Roman"/>
              </a:rPr>
              <a:t>Shumer's Self-Assessment for Service-Learning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. St. Paul, MN: Center for Experiential and Service-Learning, Department of Work, Community, and Family Education, College of Education and Human Development, University of Minneso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19c31"/>
                </a:solidFill>
                <a:latin typeface="Times New Roman"/>
              </a:rPr>
              <a:t>http://www.servicelearning.org/filemanager/download/3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Shumer, R., Duttweiler, P., Furco, et. al. (2000). </a:t>
            </a:r>
            <a:r>
              <a:rPr b="0" i="1" lang="en-US" sz="1200" spc="-1" strike="noStrike">
                <a:solidFill>
                  <a:srgbClr val="000033"/>
                </a:solidFill>
                <a:latin typeface="Times New Roman"/>
              </a:rPr>
              <a:t>Shumer's Self-Assessment for Service-Learning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. St. Paul, MN: Center for Experiential and Service-Learning, Department of Work, Community, and Family Education, College of Education and Human Development, University of Minneso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19c31"/>
                </a:solidFill>
                <a:latin typeface="Times New Roman"/>
              </a:rPr>
              <a:t>http://www.servicelearning.org/filemanager/download/3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Shumer, R., Duttweiler, P., Furco, et. al. (2000). </a:t>
            </a:r>
            <a:r>
              <a:rPr b="0" i="1" lang="en-US" sz="1200" spc="-1" strike="noStrike">
                <a:solidFill>
                  <a:srgbClr val="000033"/>
                </a:solidFill>
                <a:latin typeface="Times New Roman"/>
              </a:rPr>
              <a:t>Shumer's Self-Assessment for Service-Learning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. St. Paul, MN: Center for Experiential and Service-Learning, Department of Work, Community, and Family Education, College of Education and Human Development, University of Minneso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19c31"/>
                </a:solidFill>
                <a:latin typeface="Times New Roman"/>
              </a:rPr>
              <a:t>http://www.servicelearning.org/filemanager/download/3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Shumer, R., Duttweiler, P., Furco, et. al. (2000). </a:t>
            </a:r>
            <a:r>
              <a:rPr b="0" i="1" lang="en-US" sz="1200" spc="-1" strike="noStrike">
                <a:solidFill>
                  <a:srgbClr val="000033"/>
                </a:solidFill>
                <a:latin typeface="Times New Roman"/>
              </a:rPr>
              <a:t>Shumer's Self-Assessment for Service-Learning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. St. Paul, MN: Center for Experiential and Service-Learning, Department of Work, Community, and Family Education, College of Education and Human Development, University of Minneso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19c31"/>
                </a:solidFill>
                <a:latin typeface="Times New Roman"/>
              </a:rPr>
              <a:t>http://www.servicelearning.org/filemanager/download/3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Shumer, R., Duttweiler, P., Furco, et. al. (2000). </a:t>
            </a:r>
            <a:r>
              <a:rPr b="0" i="1" lang="en-US" sz="1200" spc="-1" strike="noStrike">
                <a:solidFill>
                  <a:srgbClr val="000033"/>
                </a:solidFill>
                <a:latin typeface="Times New Roman"/>
              </a:rPr>
              <a:t>Shumer's Self-Assessment for Service-Learning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. St. Paul, MN: Center for Experiential and Service-Learning, Department of Work, Community, and Family Education, College of Education and Human Development, University of Minneso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19c31"/>
                </a:solidFill>
                <a:latin typeface="Times New Roman"/>
              </a:rPr>
              <a:t>http://www.servicelearning.org/filemanager/download/3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lemen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L is a learning process i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e aspects of a project that can be im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reas in need of improvement 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ints for refl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ith students and service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leb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n important part of the complete SL exper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use Assessment and Evaluation interchangea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are very particular about separating the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 an entire discussion of it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ake of brevity we will use the term Assessment to loosely apply to the practice of analyzing the effectiveness of service-learning projects at all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NSLC Glo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ArialMT"/>
              </a:rPr>
              <a:t>The process of gathering information in order to make an evaluation. An evaluation is a decision or judgment about whether an effort is successful and to what extent that effort has or has not met a go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iger, Elke. Service-Learning Toolbox. Portland, OR: Rural Education Program, Northwest Regional Educational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wrel.org/ruraled/learnserve/resources/SL_Toolbox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3808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4920" y="4038120"/>
            <a:ext cx="6248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Quad I: relatively </a:t>
            </a: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ineffective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 for service and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Example: service does not meet needs of intended recipients; learning components not identified, implemented, or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Quad II: typical </a:t>
            </a: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communit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Example: cleaning l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Quad III: typical </a:t>
            </a: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academic cours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Example: studying vocabulary words for an ex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Quad IV: </a:t>
            </a: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high quality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 service-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Example: students learn spelling words related to pollution, engage in a litter removal project, then incorporate their spelling words onto signs posted around their neighborhood to discourage lit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This chart focuses on two aspects of service-learn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1) The level of curriculum/learning objective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2) The value and appropriateness of the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While these two aspects are essential for a successful service-learning project, it is important to remember that there are </a:t>
            </a: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other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 meaningful aspects, such as </a:t>
            </a: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civic engagement, youth voice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, and </a:t>
            </a: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reflection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iger, Elke. Service-Learning Toolbox. Portland, OR: Rural Education Program, Northwest Regional Educational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wrel.org/ruraled/learnserve/resources/SL_Toolbox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appreciate knowing exactly how they will be ass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iger, Elke. Service-Learning Toolbox. Portland, OR: Rural Education Program, Northwest Regional Educational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wrel.org/ruraled/learnserve/resources/SL_Toolbox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iger, Elke. Service-Learning Toolbox. Portland, OR: Rural Education Program, Northwest Regional Educational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wrel.org/ruraled/learnserve/resources/SL_Toolbox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F ASSESSMENT: teachers/administrators/standards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iger, Elke. Service-Learning Toolbox. Portland, OR: Rural Education Program, Northwest Regional Educational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wrel.org/ruraled/learnserve/resources/SL_Toolbox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F ASSESSMENT: service partners/service recipients (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iger, Elke. Service-Learning Toolbox. Portland, OR: Rural Education Program, Northwest Regional Educational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wrel.org/ruraled/learnserve/resources/SL_Toolbox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8E03-D9AB-4E86-9BCD-EBDFF28B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BD7F-668C-4A36-BA41-236AA531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F200-27F3-4B19-80B4-0F8E667A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FFD2-C081-4D6C-A4A3-9CA78706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FE88-FBBC-4330-98A2-DDE189D7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C75F-AA2F-44EB-A7E4-F59D976C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93BB-D8D8-4E49-82C4-A9D7AC37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C58E-CDD9-433D-AFC1-DAD285A4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1833-C29D-4812-BC66-B6D2E44E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DBC6-4A78-43A0-82E2-F6050194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24B9-1511-4DE1-893E-73015FA6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C809-2892-4598-A225-6C4FCC52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5182-4AF3-4990-9F4A-9749D68C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7345-ACEA-40B0-9CFE-8089C957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0D45-4A7B-47F6-8D5A-09B18E8C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273F-1371-426D-BA8F-63D6E30C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46EF-9005-4D49-9327-28E615C9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0B49B-AF24-42C4-8B39-2FA14AB5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B63C9-2744-4AE1-8530-C797C89B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15B9-67A5-4022-A147-30A27948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63BD-1F04-4C4F-9098-DD1FF640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154E-26FE-49CB-9664-90400B85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9D914-C3EC-4202-ABDB-94CF70A4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B432-FEB6-4495-AADA-4CB61F49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FB49-32F1-4F45-A94B-D07E779104D7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d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b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b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b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85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85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85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3" marL="1407960" indent="-200880">
              <a:spcBef>
                <a:spcPts val="850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4" marL="1810440" indent="-200880">
              <a:spcBef>
                <a:spcPts val="850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5" marL="1810440" indent="-200880">
              <a:spcBef>
                <a:spcPts val="85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6" marL="1810440" indent="-200880">
              <a:spcBef>
                <a:spcPts val="85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d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b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b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b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b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157D-C0AE-4C92-B26C-B45594C22F54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996320" y="5567400"/>
            <a:ext cx="1147680" cy="1290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Second Outline Level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2" marL="914400" algn="ctr">
              <a:spcBef>
                <a:spcPts val="70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  <a:p>
            <a:pPr lvl="4" marL="1828800" algn="ctr">
              <a:spcBef>
                <a:spcPts val="601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2666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Service-Learning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3434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National Service-Learning Clearinghous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d1f"/>
                </a:solidFill>
                <a:uFillTx/>
                <a:latin typeface="Times New Roman"/>
              </a:rPr>
              <a:t>www.servicelearning.or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1828800"/>
            <a:ext cx="5791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Assessing</a:t>
            </a:r>
            <a:endParaRPr b="0" lang="en-US" sz="4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3352680"/>
            <a:ext cx="586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Outcomes</a:t>
            </a:r>
            <a:endParaRPr b="0" lang="en-US" sz="4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Assessing Student </a:t>
            </a:r>
            <a:r>
              <a:rPr b="0" lang="en-US" sz="3600" spc="-1" strike="noStrike">
                <a:solidFill>
                  <a:srgbClr val="aa9527"/>
                </a:solidFill>
                <a:latin typeface="Arial Black"/>
              </a:rPr>
              <a:t>Experience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Collect information on student attitudes about the project. Ask them: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What did they learn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How did they contribute to the community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Have their attitudes about service changed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Do they have other project ideas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What did they think about the community partner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Shumer's Self-Assessment for Service-Learning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Quick Assessment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In-Depth Analysi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Follow Up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Shumer's Self-Assessment for Service-Learning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Quick Assessment (10-15 mins)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provides general overview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identify areas of strength / improvement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Shumer's Self-Assessment for Service-Learning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In-Depth Analysi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select areas in most need of improvement 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focus on what can be reasonably addressed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Shumer's Self-Assessment for Service-Learning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Follow Up: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instruments have limited value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discuss survey results with others from fields of service &amp; education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establish action steps for improvement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Shumer’s Action Step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Specify what is to be done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who will be responsible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when it will be accomplished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how you will know it is achieved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List potential human and material resource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Monitor progress within several week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Identify accomplishments and challenge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Taking perspective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It’s a </a:t>
            </a:r>
            <a:r>
              <a:rPr b="0" i="1" lang="en-US" sz="3400" spc="-1" strike="noStrike">
                <a:solidFill>
                  <a:srgbClr val="003300"/>
                </a:solidFill>
                <a:latin typeface="Times New Roman"/>
              </a:rPr>
              <a:t>learning</a:t>
            </a: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 proces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3300"/>
                </a:solidFill>
                <a:latin typeface="Times New Roman"/>
              </a:rPr>
              <a:t>Always</a:t>
            </a: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 room for improvement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Points for </a:t>
            </a:r>
            <a:r>
              <a:rPr b="0" i="1" lang="en-US" sz="3400" spc="-1" strike="noStrike">
                <a:solidFill>
                  <a:srgbClr val="003300"/>
                </a:solidFill>
                <a:latin typeface="Times New Roman"/>
              </a:rPr>
              <a:t>reflection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Don't lose sight of the many </a:t>
            </a:r>
            <a:r>
              <a:rPr b="0" i="1" lang="en-US" sz="3400" spc="-1" strike="noStrike">
                <a:solidFill>
                  <a:srgbClr val="003300"/>
                </a:solidFill>
                <a:latin typeface="Times New Roman"/>
              </a:rPr>
              <a:t>successe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Resourc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Learn and Serve Performance Measurement Toolkit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 (Project STAR, Aguirre International)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www.projectstar.org/star/Library_ls/toolkit_ls.html</a:t>
            </a:r>
            <a:endParaRPr b="0" lang="en-US" sz="1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1624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Service-Learning Quality Review 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(RMC Research)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http://cart.rmcdenver.com/assessment/</a:t>
            </a:r>
            <a:endParaRPr b="0" lang="en-US" sz="1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1624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National Communication Association</a:t>
            </a:r>
            <a:br>
              <a:rPr sz="3000"/>
            </a:b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Assessment Resources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www.natcom.org/Instruction/sl-new/AssessmentResources.</a:t>
            </a: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htm</a:t>
            </a:r>
            <a:endParaRPr b="0" lang="en-US" sz="18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Resourc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Shumer's Self-Assessment for Service-Learning</a:t>
            </a:r>
            <a:endParaRPr b="0" lang="en-US" sz="3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www.</a:t>
            </a: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servicelearning</a:t>
            </a: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.org/filemanager/download/3/</a:t>
            </a:r>
            <a:endParaRPr b="0" lang="en-US" sz="1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UC Berkeley Service-Learning Research and Development Center</a:t>
            </a:r>
            <a:endParaRPr b="0" lang="en-US" sz="3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http://gse.berkeley.edu/research/slc/index.html</a:t>
            </a:r>
            <a:endParaRPr b="0" lang="en-US" sz="1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NSLC Hot Topics: Evaluation &amp; Assessment</a:t>
            </a:r>
            <a:endParaRPr b="0" lang="en-US" sz="3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http://www.servicelearning.org/article/view/130/1/106/</a:t>
            </a:r>
            <a:endParaRPr b="0" lang="en-US" sz="1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Feedback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E-mail: </a:t>
            </a:r>
            <a:r>
              <a:rPr b="0" lang="en-US" sz="3400" spc="-1" strike="noStrike" u="sng">
                <a:solidFill>
                  <a:srgbClr val="00bd1f"/>
                </a:solidFill>
                <a:uFillTx/>
                <a:latin typeface="Times New Roman"/>
              </a:rPr>
              <a:t>info@</a:t>
            </a:r>
            <a:r>
              <a:rPr b="0" lang="en-US" sz="3400" spc="-1" strike="noStrike" u="sng">
                <a:solidFill>
                  <a:srgbClr val="00bd1f"/>
                </a:solidFill>
                <a:uFillTx/>
                <a:latin typeface="Times New Roman"/>
              </a:rPr>
              <a:t>servicelearning</a:t>
            </a:r>
            <a:r>
              <a:rPr b="0" lang="en-US" sz="3400" spc="-1" strike="noStrike" u="sng">
                <a:solidFill>
                  <a:srgbClr val="00bd1f"/>
                </a:solidFill>
                <a:uFillTx/>
                <a:latin typeface="Times New Roman"/>
              </a:rPr>
              <a:t>.org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Phone: 1-866-245-SERV (7378)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Assessment or Evaluation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Times New Roman"/>
              </a:rPr>
              <a:t>Assessment:</a:t>
            </a: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 accounts for the current state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Pre-tests or mid-stage diagnostics of project and participants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Times New Roman"/>
              </a:rPr>
              <a:t>Evaluation:</a:t>
            </a: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 looks back at what occurred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Post-tests determine the effectiveness of a project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Project Goals and Objectiv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Determine learning goals before implementing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Tie goals to specific outcomes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Involve students to give them ownership of project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Define where the project falls on the </a:t>
            </a:r>
            <a:r>
              <a:rPr b="0" i="1" lang="en-US" sz="2600" spc="-1" strike="noStrike">
                <a:solidFill>
                  <a:srgbClr val="003300"/>
                </a:solidFill>
                <a:latin typeface="Arial Black"/>
              </a:rPr>
              <a:t>service-learning map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Aim for Quadrant IV</a:t>
            </a:r>
            <a:br>
              <a:rPr sz="3600"/>
            </a:br>
            <a:r>
              <a:rPr b="0" i="1" lang="en-US" sz="2800" spc="-1" strike="noStrike">
                <a:solidFill>
                  <a:srgbClr val="003300"/>
                </a:solidFill>
                <a:latin typeface="Arial Black"/>
              </a:rPr>
              <a:t>A good balance of learning and servic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197400" cy="3886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429640" y="6340320"/>
            <a:ext cx="428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Original Design: Hill, Service-Learning 2000 Cente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Modified: Geiger, “Service-Learning Toolbox,” NWREL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809880"/>
            <a:ext cx="533160" cy="533520"/>
          </a:xfrm>
          <a:prstGeom prst="ellipse">
            <a:avLst/>
          </a:prstGeom>
          <a:noFill/>
          <a:ln w="9360">
            <a:solidFill>
              <a:srgbClr val="f4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2133720"/>
            <a:ext cx="14475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Project Goals and Objectiv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What do students need to learn?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How can it be linked to the project?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3300"/>
                </a:solidFill>
                <a:latin typeface="Times New Roman"/>
              </a:rPr>
              <a:t>Post on large sheets for students to use in reflection and evaluation of the project.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Project Goals and Objectiv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Why write out the objectives?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helps with learning needs assessment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guides evaluation of project outcomes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facilitates grant reporting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increases likelihood of refund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Three Areas of Assessment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Student Learning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Student Service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Student Experience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Assessing Student </a:t>
            </a:r>
            <a:r>
              <a:rPr b="0" lang="en-US" sz="3600" spc="-1" strike="noStrike">
                <a:solidFill>
                  <a:srgbClr val="00bd1f"/>
                </a:solidFill>
                <a:latin typeface="Arial Black"/>
              </a:rPr>
              <a:t>Learning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Link assessment to earlier goals and objective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Rubrics can help identify clear links between objectives and outcome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Include sections for written comments and to refer to outcome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Assessing Student </a:t>
            </a:r>
            <a:r>
              <a:rPr b="0" lang="en-US" sz="3600" spc="-1" strike="noStrike">
                <a:solidFill>
                  <a:srgbClr val="336600"/>
                </a:solidFill>
                <a:latin typeface="Arial Black"/>
              </a:rPr>
              <a:t>Service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Design an instrument to collect information from community partners. Ask them about:</a:t>
            </a: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Their perceptions of students’ willingness to participate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The extent to which students met expectations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Share and discuss feedback with student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22:09:12Z</dcterms:created>
  <dc:creator>Steven Padilla</dc:creator>
  <dc:description/>
  <dc:language>en-US</dc:language>
  <cp:lastModifiedBy>Steven Padilla</cp:lastModifiedBy>
  <dcterms:modified xsi:type="dcterms:W3CDTF">2005-07-31T19:36:44Z</dcterms:modified>
  <cp:revision>83</cp:revision>
  <dc:subject/>
  <dc:title>Assessing Service-Learning Outcomes</dc:title>
</cp:coreProperties>
</file>